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6BAF-AF6E-456C-87AD-A2E36C77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437-CF44-4576-B5B8-232AB8C2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4F79-E76A-4ED9-9156-70643B88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279A-CD2F-4A20-90D3-8C248C22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D7DE-B54B-4433-A699-D6677610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3610-1C96-4CE7-A3EB-DE770604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9B51-76EA-4556-8A98-EA0CD918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8BB9-CFF6-469B-9AB2-F60AC07F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2493-A257-4282-A65F-35F0A89A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D31B-4853-44F9-8C41-124EF043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D38-2C80-4845-B41E-D525380B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939D-9856-40F5-82A9-6E76DF8C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6FC2-EC61-4E53-9110-406AC290D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GLASGOW                                        GLASGOW                          GLASGOW  NORTHERN                      GLANROTHES                                     HEADWELL                                       INVERCLY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-93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CLYDE                                     INVERNESS                                        IRVINE                                         KIRKCALDY                                        KIRN                                             LANARKSH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NARKSHIRE  25TH                            LOCHWINNOCH                                   LORNE                                        McLARRAN                                       MIDLOTHIAN                            NEWTON  STEW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469200"/>
            <a:ext cx="982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TON  STEWART                                   NITHSDALE                                        PAISLEY                                          PAISLEY                                            PAISLEY                                      PAISLEY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5800" y="18900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73240" y="333360"/>
            <a:ext cx="987480" cy="1069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440160" y="260280"/>
            <a:ext cx="1189080" cy="113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24520" y="404640"/>
            <a:ext cx="9507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392880" y="260280"/>
            <a:ext cx="1243080" cy="117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8048520" y="333360"/>
            <a:ext cx="113364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60520" y="2205000"/>
            <a:ext cx="933480" cy="900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1857240" y="1916280"/>
            <a:ext cx="1390680" cy="120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3440160" y="2060640"/>
            <a:ext cx="1216080" cy="1128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5097600" y="2060640"/>
            <a:ext cx="91440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392880" y="206064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7977240" y="191628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415800" y="3500280"/>
            <a:ext cx="1170000" cy="127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2073240" y="371628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8048520" y="3789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415800" y="544500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1928880" y="5229360"/>
            <a:ext cx="1298520" cy="1215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3368520" y="5013360"/>
            <a:ext cx="1390680" cy="146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4881600" y="5157720"/>
            <a:ext cx="1371600" cy="132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608880" y="3645000"/>
            <a:ext cx="950760" cy="1179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6537240" y="537372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7977240" y="5229360"/>
            <a:ext cx="127944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6:14:46Z</dcterms:created>
  <dc:creator>John Young</dc:creator>
  <dc:description/>
  <dc:language>en-US</dc:language>
  <cp:lastModifiedBy>JY</cp:lastModifiedBy>
  <cp:lastPrinted>2000-10-23T03:20:43Z</cp:lastPrinted>
  <dcterms:modified xsi:type="dcterms:W3CDTF">2007-02-05T19:13:59Z</dcterms:modified>
  <cp:revision>18</cp:revision>
  <dc:subject/>
  <dc:title>No Slide Title</dc:title>
</cp:coreProperties>
</file>